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3E6-4F41-444F-85F8-A2850D41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3F8-3255-44EE-985B-26AE6D3F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BB4-0D1B-4D5E-B0D2-33104230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F84-2C87-4ACC-A3F0-3CA659E0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04A6-0C8D-482B-B257-DF0F3B5D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895E-A899-4D06-9C01-D6A5EBC8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8F25-49AB-4EFE-B484-910D622E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2DBD-3608-4A6B-95F5-DDDB2EB4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CB1E-EF00-4D81-95E4-288F5E26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BDF9-8EA2-4CE3-AEC9-D0A538B1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65CB-94CA-4CAD-BF8D-F856CD87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5E9-75B5-4AD9-AA13-065F8EC2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17BC-606F-43D1-93B7-F87BAFE0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0DD4-50DF-4BE3-A655-DF82CF37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066F-2B19-42F0-AFFB-3725D043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EE84-CB45-4B83-8BFA-6D72351F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E772-2B58-4D0C-8A0F-7C244156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F3F-D327-4915-8F8E-26938192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E61-ED55-43D2-AF64-4AD53589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EAE-0944-4CAA-BD98-B7E2277E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16E-13D6-49AC-86FA-50CE7DCA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663-486E-4E22-90C7-C660F6D6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72F-338F-4344-8A27-739A13A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7A9-49C0-422E-9952-F553CCC0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EF49-F5DB-4906-B1D6-9BDA667CC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b8b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6a6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0d0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a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1b1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282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29292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999999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1a1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a9a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b7b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adadad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292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8b8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8c8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8b8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DCBF-F111-462A-B740-801A4D36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e1a8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4988e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hyperlink" Target="http://www.google.com/imgres?imgurl=http://www.greenbuzzagency.com/wp-content/uploads/2009/12/numbers2-300x300.jpg&amp;imgrefurl=http://www.greenbuzzagency.com/social-media-consultant-show-me-the-numbers&amp;usg=__6qBJS3ChZeoq0SD3hfcJyGsFgV0=&amp;h=300&amp;w=300&amp;sz=40&amp;hl=en&amp;start=44&amp;itbs=1&amp;tbnid=yg4V5Krj4Y2VhM:&amp;tbnh=116&amp;tbnw=116&amp;prev=/images%3Fq%3Dnumbers%26start%3D40%26hl%3Den%26safe%3Dactive%26sa%3DN%26gbv%3D2%26ndsp%3D20%26tbs%3Disch:1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Calligraphy"/>
              </a:rPr>
              <a:t>Espan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Por:Gabri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Jacqu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 m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 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p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n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 abul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abul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3733920" y="1916280"/>
            <a:ext cx="449568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Los c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Az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os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Amar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Anaranj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6576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Los nu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u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i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7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1828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Z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gar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g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M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eph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4648320" y="1676520"/>
            <a:ext cx="3924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92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La ca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ga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cua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po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l b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a coc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3800520" y="1828800"/>
            <a:ext cx="53434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9:18:24Z</dcterms:created>
  <dc:creator>WSFCS Workstation</dc:creator>
  <dc:description/>
  <dc:language>en-US</dc:language>
  <cp:lastModifiedBy>WSFCS Workstation</cp:lastModifiedBy>
  <dcterms:modified xsi:type="dcterms:W3CDTF">2010-04-27T19:47:57Z</dcterms:modified>
  <cp:revision>3</cp:revision>
  <dc:subject/>
  <dc:title>Espanol</dc:title>
</cp:coreProperties>
</file>